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56F-058D-4713-B1A2-05739EEB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AFA-51A8-4C29-8B2C-70CDB9B7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3DE-590E-4E09-8C9B-D49DA739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333-6E2E-4D0B-89A4-DBF834FD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A79-FB79-4114-AE06-39B962D2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194-361E-4851-BB50-19609EF8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F45-53FE-44B1-98C8-68C3A143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F6A-B187-454D-A280-6A0711C9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238-F920-42D7-931C-4773F422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901-6DE0-4A6E-8D46-E147DCE4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DE6-593F-4876-B9A3-A91BA3F5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45E-FE6B-4CB4-9156-B67655E6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4C49-816A-4FC1-8652-4CF400824B6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The Car Indus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good example of an industrial system is the car manufacturing industry, like the Rover factory at Longbridge in Birmingh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ctually more of an assembly industry as most of the parts are made elsewhere and then brought to Longbridge to be put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www.ssrfanatic.com/forum/attachments/f6/39324d1192931084-who-owns-who-global-motor-industry-who_owns_who.gif"/>
          <p:cNvPicPr/>
          <p:nvPr/>
        </p:nvPicPr>
        <p:blipFill>
          <a:blip r:embed="rId1"/>
          <a:stretch/>
        </p:blipFill>
        <p:spPr>
          <a:xfrm>
            <a:off x="0" y="620640"/>
            <a:ext cx="91425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3:06:00Z</dcterms:created>
  <dc:creator>Dell_02</dc:creator>
  <dc:description/>
  <dc:language>en-US</dc:language>
  <cp:lastModifiedBy>Dell_02</cp:lastModifiedBy>
  <dcterms:modified xsi:type="dcterms:W3CDTF">2011-01-27T03:13:25Z</dcterms:modified>
  <cp:revision>1</cp:revision>
  <dc:subject/>
  <dc:title>The Car Industry</dc:title>
</cp:coreProperties>
</file>